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849-19D9-4E67-975D-4BBF6A5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879-DA13-4442-8982-6160C44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701-45E2-4C15-8544-585D16DD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FBF-00C2-421B-B012-669E0B7A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0698-001E-4FB1-81A9-D742EE8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4206-0788-4FBB-90A9-DA7B6CB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384C-EC72-4034-8CD8-E090E5F5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CC68-264B-4FB0-B1F1-5A7BC3C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1890-0BAF-4900-BF3A-2E10F9A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5F3A-AED5-4A0A-837D-FBD7B63E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096-55AA-42C0-96F2-BA3E457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F7A-DDEF-466D-8072-E08349F6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DB8-1DD3-4A3D-857C-4521ED10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C14-42E8-41CA-9991-757A090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5FE7-9BF6-403B-83D3-57E0FA52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D69-8D93-40CB-B56E-4877D013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C78-1A8C-4D76-9CDE-A121FBED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A8B4C-D4EC-4D66-8D43-488DD992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AF7F7-3ED7-42F8-8EF2-9393B354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6675F-A591-4CC2-A4B8-25A50C00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F466E-7233-4FAE-8A2B-C4C975AF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AEE39-374C-4A47-8D02-5798F94A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75A-3433-4152-956C-13DDE2C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4F3C5-9D99-4DFF-9519-165CC073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0B6BF-29FC-4B5E-BB01-130B367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5068C-E4AF-48C5-9CD1-CDFDA5A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D8653-13A3-4897-985A-0EBA498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28814-F4A1-4B65-93E2-754E94E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38D93-A549-4729-84E1-C13E355E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EE119-CF54-4B56-876A-073F84B7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9F94-DD22-43CC-9100-CCC042A7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559D-ECD0-473F-833A-335B82A0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72A7-96C3-400E-A755-FF2579D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3FF-CE40-4B26-95D0-6D4685D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2FB7-8454-4648-BF40-51790008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51204-EA0E-4EF6-97BF-3F46181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6559-CAD2-46A0-897B-A97E6C63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776D-4CE9-4FC4-93F8-F005026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942D-38E2-4FB2-A78A-529076F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C325-1A5C-49E0-84B4-A3B49C3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44B1-69C3-4111-BE2E-3AC8201A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2125-3648-4534-B9DF-531ADD09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6DD2F-E975-428E-8A6E-8F4C471B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9BA01-14EE-4253-9CEB-C96C76EB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E14-4353-47A9-A1AC-7AFFA15E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7AA31-E3E1-4024-91C0-39D34951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8D36A-A9CD-467F-A843-B971E8B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9B781-9F7B-4500-81A0-63C1E783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0E7A8-59D0-4F6B-930C-69C42775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114F0-CDC3-4DC2-9459-FABF82FD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AE8D6-2077-414D-8512-C5509C61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EA355-5238-42E7-9511-C5A5743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69BE0-38E8-45BB-8690-0E4D7BD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AB450-EDCA-4B21-9505-7E8719AE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ABFB3-0D8A-4FE3-83A0-9CFE7A35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E44-8AD4-4B19-942C-F459CC7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488CA-C20D-4CE2-84C8-09BA6C62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E7F80-28F7-4A4A-82A9-B8742064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A36CC-972F-434F-BA11-13F185D2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9B06C-BCF2-4A3B-B2CB-52D4FD7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1A1EF-89CE-49DF-A92A-CA3020E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AB22B-3E9F-4845-93E9-5E17B48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46497-4D13-46E6-8CF1-7164D32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9158C-5B39-4B11-B0F9-72E5BB5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7D7FF-7074-4218-9D2B-E66E9B7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14F82-A941-46A8-B58E-BDBF161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56C-95AE-4388-8C03-6030869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90CFD-D444-40AF-AB33-D215BC08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09B06-349C-47FC-B8AC-82516127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EE455-CF72-49EB-B9D9-E09E11B5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9A2F5-DF1E-4AD6-A0D8-3B1C8A41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FA08E-0B2E-45C0-9064-C7366414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F86E5-2A30-4FBA-A7F1-A4D9D47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EC3DF-AC9C-4F3E-A030-18E3214E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24FF1-9302-498F-A80D-CC67DF3C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D0019-3DF9-4511-8A6E-B901376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D05C4-E085-4E7B-9793-6612986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E69-E627-44E9-8167-E74769F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5867F-AC5D-4625-976A-345A56B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64294-42B5-4B74-A135-38980ED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906E8-713C-4447-B006-58CCBF9F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A312E-1856-40FB-B79B-95A133F8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D5C29-3FE3-4C33-B0DB-C54247B2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342-E5E8-4B5C-8430-E151548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023-06A1-4EC7-9FCB-E8433F5683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0D9C-24DB-4AB2-B4F3-20C4F0E79B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DE5-D42F-4EE4-A3C9-00051865C6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3FD-19FF-419D-A62E-39EDC6D28A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2B5-D567-452C-87B2-B3F8305BBB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C95-7B7B-4C80-9235-B09A6C339A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70B-8024-450C-BCA8-7CDA540FCE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8343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ff3300"/>
                </a:solidFill>
                <a:latin typeface="Century Schoolbook"/>
              </a:rPr>
              <a:t>УРОК ХИМИИ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ff3300"/>
                </a:solidFill>
                <a:latin typeface="Century Schoolbook"/>
              </a:rPr>
              <a:t>8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 КЛАСС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979640" y="407664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471840" y="49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642960" y="15015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57120" y="2018520"/>
            <a:ext cx="5643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NaOH + Cu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  <a:ea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2000160" y="3429000"/>
            <a:ext cx="650088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Na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+ 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Сu(OH)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Прямоугольник 10"/>
          <p:cNvSpPr/>
          <p:nvPr/>
        </p:nvSpPr>
        <p:spPr>
          <a:xfrm>
            <a:off x="3960" y="2071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373320" y="2872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5715000" y="250020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214200" y="2270880"/>
            <a:ext cx="3351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a3d01"/>
                </a:solidFill>
                <a:latin typeface="Arial"/>
              </a:rPr>
              <a:t>Cu(OH)</a:t>
            </a:r>
            <a:r>
              <a:rPr b="1" lang="ru-RU" sz="4000" spc="-1" strike="noStrike">
                <a:solidFill>
                  <a:srgbClr val="9a3d01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9a3d01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4431240" y="2571840"/>
            <a:ext cx="446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CuO</a:t>
            </a:r>
            <a:r>
              <a:rPr b="1" lang="en-US" sz="6000" spc="-1" strike="noStrike">
                <a:solidFill>
                  <a:srgbClr val="9a3d01"/>
                </a:solidFill>
                <a:latin typeface="Times New Roman"/>
              </a:rPr>
              <a:t>  +  </a:t>
            </a: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9a3d01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9a3d01"/>
                </a:solidFill>
                <a:latin typeface="Arial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3502080" y="25718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3d01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44960" y="35856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3429000" y="314316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9"/>
          <p:cNvSpPr/>
          <p:nvPr/>
        </p:nvSpPr>
        <p:spPr>
          <a:xfrm>
            <a:off x="857160" y="24289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Cu +</a:t>
            </a:r>
            <a:r>
              <a:rPr b="1" lang="ru-RU" sz="7200" spc="-1" strike="noStrike">
                <a:solidFill>
                  <a:srgbClr val="9a3d01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9a3d01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0"/>
          <p:cNvSpPr/>
          <p:nvPr/>
        </p:nvSpPr>
        <p:spPr>
          <a:xfrm>
            <a:off x="341964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90320" y="5014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Прямоугольник 8"/>
          <p:cNvSpPr/>
          <p:nvPr/>
        </p:nvSpPr>
        <p:spPr>
          <a:xfrm>
            <a:off x="5214960" y="2428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2C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Прямоугольник 9"/>
          <p:cNvSpPr/>
          <p:nvPr/>
        </p:nvSpPr>
        <p:spPr>
          <a:xfrm>
            <a:off x="214200" y="2428920"/>
            <a:ext cx="3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7"/>
          <p:cNvSpPr/>
          <p:nvPr/>
        </p:nvSpPr>
        <p:spPr>
          <a:xfrm>
            <a:off x="4357800" y="300024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0" y="2947320"/>
            <a:ext cx="428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Cu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 + Z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4821480" y="2947320"/>
            <a:ext cx="40870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Zn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 + 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90320" y="5014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857760" y="350028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Третий лиш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Прямоугольник 3"/>
          <p:cNvSpPr/>
          <p:nvPr/>
        </p:nvSpPr>
        <p:spPr>
          <a:xfrm>
            <a:off x="571680" y="733320"/>
            <a:ext cx="67150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4P  +  5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 =  2P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Fe  +  S =  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2HgO  =  2Hg  +  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714240" y="4786200"/>
            <a:ext cx="45720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2H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O =  2H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   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+  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CaC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  =  CaO  +  C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2Cu  +  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 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 = 2C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642960" y="2714760"/>
            <a:ext cx="70009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2KCl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=  2KCl  +  3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2K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=  K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 +  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+  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Zn  +  2HCl  =  ZnCl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 +  H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7120" y="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Задание 2 (ответы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Прямоугольник 8"/>
          <p:cNvSpPr/>
          <p:nvPr/>
        </p:nvSpPr>
        <p:spPr>
          <a:xfrm>
            <a:off x="285840" y="571680"/>
            <a:ext cx="8858160" cy="9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замещения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а)</a:t>
            </a:r>
            <a:r>
              <a:rPr b="1" lang="en-US" sz="2400" spc="-1" strike="noStrike">
                <a:solidFill>
                  <a:srgbClr val="9a3d01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соединения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u +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Cl = Cu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замещения 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Fe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aOH = Fe(OH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обмена 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+ 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 →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соедине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разложения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 Fe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обмена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Zn +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→   Z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замещения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того за карточку 2 –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max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8 б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5"/>
          <p:cNvSpPr/>
          <p:nvPr/>
        </p:nvSpPr>
        <p:spPr>
          <a:xfrm>
            <a:off x="571680" y="1351080"/>
            <a:ext cx="7429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ритерии выставления отм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-1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- отметка  «5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- отметка  «4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- отметка  «3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7" name="image03.png" descr=""/>
          <p:cNvPicPr/>
          <p:nvPr/>
        </p:nvPicPr>
        <p:blipFill>
          <a:blip r:embed="rId1"/>
          <a:stretch/>
        </p:blipFill>
        <p:spPr>
          <a:xfrm>
            <a:off x="684360" y="458640"/>
            <a:ext cx="7578720" cy="5756400"/>
          </a:xfrm>
          <a:prstGeom prst="rect">
            <a:avLst/>
          </a:prstGeom>
          <a:ln w="0">
            <a:noFill/>
          </a:ln>
        </p:spPr>
      </p:pic>
      <p:pic>
        <p:nvPicPr>
          <p:cNvPr id="548" name="image03.png" descr=""/>
          <p:cNvPicPr/>
          <p:nvPr/>
        </p:nvPicPr>
        <p:blipFill>
          <a:blip r:embed="rId2"/>
          <a:stretch/>
        </p:blipFill>
        <p:spPr>
          <a:xfrm>
            <a:off x="657360" y="458640"/>
            <a:ext cx="7578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85880" y="2142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14480" indent="-835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Century Schoolbook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014480" indent="-835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071720" y="3643200"/>
          <a:ext cx="6730920" cy="2133720"/>
        </p:xfrm>
        <a:graphic>
          <a:graphicData uri="http://schemas.openxmlformats.org/drawingml/2006/table">
            <a:tbl>
              <a:tblPr/>
              <a:tblGrid>
                <a:gridCol w="3674880"/>
                <a:gridCol w="30560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реа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CuCl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Zn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Fe(OH)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KI + Pb(N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Ca + 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Rectangle 7"/>
          <p:cNvSpPr/>
          <p:nvPr/>
        </p:nvSpPr>
        <p:spPr>
          <a:xfrm>
            <a:off x="214200" y="1203120"/>
            <a:ext cx="783432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араграф № 2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упражнение 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ши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осуществи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реакций, расставьте коэффициенты, укажите типы ре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35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Прямоугольник 7"/>
          <p:cNvGrpSpPr/>
          <p:nvPr/>
        </p:nvGrpSpPr>
        <p:grpSpPr>
          <a:xfrm>
            <a:off x="-115920" y="1036800"/>
            <a:ext cx="2859120" cy="3065400"/>
            <a:chOff x="-115920" y="1036800"/>
            <a:chExt cx="2859120" cy="3065400"/>
          </a:xfrm>
        </p:grpSpPr>
        <p:pic>
          <p:nvPicPr>
            <p:cNvPr id="358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-115920" y="1036800"/>
              <a:ext cx="285912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071720"/>
              <a:ext cx="257184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Задание: </a:t>
              </a: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заполните пустые овалы соответствующей информацией. Раскройте каждый признак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6"/>
          <p:cNvGrpSpPr/>
          <p:nvPr/>
        </p:nvGrpSpPr>
        <p:grpSpPr>
          <a:xfrm>
            <a:off x="2714760" y="500040"/>
            <a:ext cx="5715000" cy="5643720"/>
            <a:chOff x="2714760" y="500040"/>
            <a:chExt cx="5715000" cy="5643720"/>
          </a:xfrm>
        </p:grpSpPr>
        <p:sp>
          <p:nvSpPr>
            <p:cNvPr id="361" name="Oval 7"/>
            <p:cNvSpPr/>
            <p:nvPr/>
          </p:nvSpPr>
          <p:spPr>
            <a:xfrm>
              <a:off x="4073400" y="3444480"/>
              <a:ext cx="10508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6529680" y="3444480"/>
              <a:ext cx="10508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610960" y="500040"/>
              <a:ext cx="1841760" cy="6080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51040" y="2576160"/>
              <a:ext cx="2006640" cy="7398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3721320" y="1146600"/>
              <a:ext cx="1583280" cy="66492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AutoShape 12"/>
            <p:cNvCxnSpPr/>
            <p:nvPr/>
          </p:nvCxnSpPr>
          <p:spPr>
            <a:xfrm flipH="1">
              <a:off x="5031720" y="3168000"/>
              <a:ext cx="443520" cy="390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13"/>
            <p:cNvCxnSpPr/>
            <p:nvPr/>
          </p:nvCxnSpPr>
          <p:spPr>
            <a:xfrm>
              <a:off x="6385320" y="3315960"/>
              <a:ext cx="367560" cy="17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8" name="Text Box 14"/>
            <p:cNvSpPr/>
            <p:nvPr/>
          </p:nvSpPr>
          <p:spPr>
            <a:xfrm>
              <a:off x="5610960" y="2739960"/>
              <a:ext cx="153288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AutoShape 15"/>
            <p:cNvCxnSpPr/>
            <p:nvPr/>
          </p:nvCxnSpPr>
          <p:spPr>
            <a:xfrm flipH="1" flipV="1">
              <a:off x="5350680" y="2575440"/>
              <a:ext cx="49680" cy="22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16"/>
            <p:cNvCxnSpPr/>
            <p:nvPr/>
          </p:nvCxnSpPr>
          <p:spPr>
            <a:xfrm flipV="1">
              <a:off x="6222600" y="2180880"/>
              <a:ext cx="406440" cy="3952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17"/>
            <p:cNvCxnSpPr/>
            <p:nvPr/>
          </p:nvCxnSpPr>
          <p:spPr>
            <a:xfrm flipH="1" flipV="1">
              <a:off x="4651200" y="1872000"/>
              <a:ext cx="195120" cy="25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18"/>
            <p:cNvCxnSpPr/>
            <p:nvPr/>
          </p:nvCxnSpPr>
          <p:spPr>
            <a:xfrm flipH="1" flipV="1">
              <a:off x="6627960" y="1145880"/>
              <a:ext cx="124200" cy="53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3" name="Text Box 19"/>
            <p:cNvSpPr/>
            <p:nvPr/>
          </p:nvSpPr>
          <p:spPr>
            <a:xfrm>
              <a:off x="4215600" y="3558240"/>
              <a:ext cx="7358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6529680" y="3558240"/>
              <a:ext cx="984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AutoShape 21"/>
            <p:cNvCxnSpPr/>
            <p:nvPr/>
          </p:nvCxnSpPr>
          <p:spPr>
            <a:xfrm flipH="1">
              <a:off x="3557880" y="3822840"/>
              <a:ext cx="60552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22"/>
            <p:cNvCxnSpPr/>
            <p:nvPr/>
          </p:nvCxnSpPr>
          <p:spPr>
            <a:xfrm flipH="1">
              <a:off x="6085080" y="3869640"/>
              <a:ext cx="60552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AutoShape 23"/>
            <p:cNvCxnSpPr/>
            <p:nvPr/>
          </p:nvCxnSpPr>
          <p:spPr>
            <a:xfrm>
              <a:off x="4645080" y="3937320"/>
              <a:ext cx="201240" cy="41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24"/>
            <p:cNvCxnSpPr/>
            <p:nvPr/>
          </p:nvCxnSpPr>
          <p:spPr>
            <a:xfrm flipH="1">
              <a:off x="6529320" y="3937320"/>
              <a:ext cx="477360" cy="122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25"/>
            <p:cNvCxnSpPr/>
            <p:nvPr/>
          </p:nvCxnSpPr>
          <p:spPr>
            <a:xfrm>
              <a:off x="7513560" y="3870000"/>
              <a:ext cx="253080" cy="32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Oval 26"/>
            <p:cNvSpPr/>
            <p:nvPr/>
          </p:nvSpPr>
          <p:spPr>
            <a:xfrm>
              <a:off x="7273440" y="419400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27"/>
            <p:cNvSpPr/>
            <p:nvPr/>
          </p:nvSpPr>
          <p:spPr>
            <a:xfrm>
              <a:off x="4215600" y="435024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28"/>
            <p:cNvSpPr/>
            <p:nvPr/>
          </p:nvSpPr>
          <p:spPr>
            <a:xfrm>
              <a:off x="2791800" y="440172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5689080" y="511452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30"/>
            <p:cNvSpPr/>
            <p:nvPr/>
          </p:nvSpPr>
          <p:spPr>
            <a:xfrm>
              <a:off x="5539680" y="444888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7340760" y="498276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AutoShape 32"/>
            <p:cNvCxnSpPr/>
            <p:nvPr/>
          </p:nvCxnSpPr>
          <p:spPr>
            <a:xfrm>
              <a:off x="7149600" y="3928680"/>
              <a:ext cx="191160" cy="12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7" name="Oval 33"/>
            <p:cNvSpPr/>
            <p:nvPr/>
          </p:nvSpPr>
          <p:spPr>
            <a:xfrm>
              <a:off x="6529680" y="568404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AutoShape 34"/>
            <p:cNvCxnSpPr/>
            <p:nvPr/>
          </p:nvCxnSpPr>
          <p:spPr>
            <a:xfrm>
              <a:off x="7093080" y="3937680"/>
              <a:ext cx="1080" cy="174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Oval 35"/>
            <p:cNvSpPr/>
            <p:nvPr/>
          </p:nvSpPr>
          <p:spPr>
            <a:xfrm>
              <a:off x="2714760" y="346860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447000" y="285624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AutoShape 37"/>
            <p:cNvCxnSpPr/>
            <p:nvPr/>
          </p:nvCxnSpPr>
          <p:spPr>
            <a:xfrm flipH="1">
              <a:off x="3803040" y="3650400"/>
              <a:ext cx="270360" cy="1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2" name="Oval 38"/>
            <p:cNvSpPr/>
            <p:nvPr/>
          </p:nvSpPr>
          <p:spPr>
            <a:xfrm>
              <a:off x="6222960" y="1736640"/>
              <a:ext cx="1920960" cy="620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39"/>
            <p:cNvSpPr/>
            <p:nvPr/>
          </p:nvSpPr>
          <p:spPr>
            <a:xfrm>
              <a:off x="4000320" y="2130120"/>
              <a:ext cx="18086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4" name="AutoShape 33"/>
          <p:cNvCxnSpPr>
            <a:stCxn id="361" idx="0"/>
          </p:cNvCxnSpPr>
          <p:nvPr/>
        </p:nvCxnSpPr>
        <p:spPr>
          <a:xfrm flipH="1" flipV="1">
            <a:off x="4214160" y="3285360"/>
            <a:ext cx="3848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39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399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5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6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14"/>
            <p:cNvCxnSpPr>
              <a:endCxn id="401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1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3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4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25"/>
            <p:cNvSpPr/>
            <p:nvPr/>
          </p:nvSpPr>
          <p:spPr>
            <a:xfrm>
              <a:off x="5658480" y="515844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5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6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7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0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2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43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37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са веществ вступивших в реакцию равна массе веществ, образовавшихся в результате е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4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5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14"/>
            <p:cNvCxnSpPr>
              <a:endCxn id="439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1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6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5658480" y="515844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3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4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5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0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47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75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Calibri"/>
                </a:rPr>
                <a:t>Масса веществ вступивших в реакцию равна массе веществ, образовавшихся в результате е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1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2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4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4"/>
            <p:cNvCxnSpPr>
              <a:endCxn id="477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9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0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4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изменение цве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5715000" y="51436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га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адо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запа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1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ыделение тепло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3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8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5"/>
          <p:cNvSpPr/>
          <p:nvPr/>
        </p:nvSpPr>
        <p:spPr>
          <a:xfrm>
            <a:off x="928800" y="1928880"/>
            <a:ext cx="74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Тема уро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Типы химических реакци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0" y="214200"/>
            <a:ext cx="8748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рточка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тавить коэффициенты в схемах реак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39640" y="1341360"/>
          <a:ext cx="7920000" cy="530388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ы химических реа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)  Cr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 →  A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)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A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)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 +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C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)  Ba(OH)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Ba(NO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)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Segoe UI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→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) 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K +  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K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)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→  Fe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)   Na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+  BaC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→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NaCl +  BaS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357120" y="785880"/>
          <a:ext cx="8358120" cy="4572000"/>
        </p:xfrm>
        <a:graphic>
          <a:graphicData uri="http://schemas.openxmlformats.org/drawingml/2006/table">
            <a:tbl>
              <a:tblPr/>
              <a:tblGrid>
                <a:gridCol w="3500640"/>
                <a:gridCol w="48574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 +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l + 3CuCl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AlCl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C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H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H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 2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 +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TextBox 5"/>
          <p:cNvSpPr/>
          <p:nvPr/>
        </p:nvSpPr>
        <p:spPr>
          <a:xfrm>
            <a:off x="571680" y="9288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4429080" y="928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500040" y="3214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9"/>
          <p:cNvSpPr/>
          <p:nvPr/>
        </p:nvSpPr>
        <p:spPr>
          <a:xfrm>
            <a:off x="4429080" y="3214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179280" y="476280"/>
          <a:ext cx="8713800" cy="6381720"/>
        </p:xfrm>
        <a:graphic>
          <a:graphicData uri="http://schemas.openxmlformats.org/drawingml/2006/table">
            <a:tbl>
              <a:tblPr/>
              <a:tblGrid>
                <a:gridCol w="4321440"/>
                <a:gridCol w="4392360"/>
              </a:tblGrid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аны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кажите тип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98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3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2N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a +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 → Ba(OH)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за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OH+ 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K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об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Cl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Cl+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ра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6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aNO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aNO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ра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B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Cl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r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за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KOH +AlCl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3KCl+ Al(OH)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об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4:09:36Z</dcterms:created>
  <dc:creator>metodroom</dc:creator>
  <dc:description/>
  <dc:language>en-US</dc:language>
  <cp:lastModifiedBy>Людмила Степанец</cp:lastModifiedBy>
  <dcterms:modified xsi:type="dcterms:W3CDTF">2022-11-15T18:18:49Z</dcterms:modified>
  <cp:revision>73</cp:revision>
  <dc:subject/>
  <dc:title>Проблемный урок - эффективное средство развития учащихся</dc:title>
</cp:coreProperties>
</file>